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378-C8B8-426F-BF55-5459277E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77F-3204-437F-9AF5-9FD1F3E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727-06C4-4465-9447-A32A7E4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79A-1A2D-4F05-9F01-8C0E396B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1DC-F1F7-4213-A5C6-20149113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6A2B-7DE4-449F-B870-115A87E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D3A-F449-4323-9174-BAB8BD8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E399-D9D4-40CF-B10B-05F14AC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2676-9B99-4CC0-879A-9E5F5E0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208-6170-4880-97EB-C961D086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968A-8D69-4EF8-B0A4-8643EC5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B23-9781-4F4C-B81E-3927D29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55D-80E0-4A32-A0A4-0A8F410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5FA-7FF9-4F30-A2A9-E1187646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29C-446E-4458-B658-F45A7CD5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F6D-413F-496D-A49E-AF841985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A942-DCEB-45F0-A87A-5235AA00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0B7-055B-45AF-98B0-909D2C1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C88-9BC9-4529-A128-39396A63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DFC-A7B9-4A52-8525-2252CB6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04D-0412-4E64-9C01-D5DBCCFE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B6F-DB44-434A-AF91-FF9BD08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699-87CE-4785-8CF3-CE6CEA1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E7E-44A8-4AF4-8F4E-373EAC6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6B0-084D-42C3-AE29-05F7073857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CBA-7538-42E1-9CD4-8DD4B7A62F6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&#36130;&#25919;&#25919;&#31574;&#21644;&#36135;&#24065;&#25919;&#31574;&#30340;&#24433;&#21709;" TargetMode="External"/><Relationship Id="rId2" Type="http://schemas.openxmlformats.org/officeDocument/2006/relationships/hyperlink" Target="261,6,&#31532;&#20108;&#33410; &#36130;&#25919;&#25919;&#31574;&#25928;&#26524;" TargetMode="External"/><Relationship Id="rId3" Type="http://schemas.openxmlformats.org/officeDocument/2006/relationships/hyperlink" Target="267,12,&#31532;&#19977;&#33410; &#36135;&#24065;&#25919;&#31574;&#25928;&#26524;" TargetMode="External"/><Relationship Id="rId4" Type="http://schemas.openxmlformats.org/officeDocument/2006/relationships/hyperlink" Target="271,16,&#31532;&#22235;&#33410; &#20004;&#31181;&#25919;&#31574;&#28151;&#21512;&#20351;&#29992;" TargetMode="Externa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十五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宏观经济政策分析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挤出效应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是指政府支出增加所引起的私人消费或投资降低的效果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政府支出挤占私人支出取决于以下几个因素：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支出乘数的大小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货币需求对产出变动的敏感程度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货币需求对利率变动的敏感程度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投资需求对利率变动的敏感程度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32720" y="6381720"/>
            <a:ext cx="289080" cy="476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货币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货币政策效果的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-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图形分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148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63640" y="602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货币政策效果因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IS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斜率而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货币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货币政策效果的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-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图形分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6985080" cy="4056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16000" y="609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货币政策效果因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LM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斜率而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货币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古典注意的极端情况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货币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货币政策的局限性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在通货膨胀时施行紧缩的货币政策可能效果比较显著，但在经济衰退时期，实行扩张的货币政策效果就不明显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从货币市场均衡的情况看，增加或减少货币供给要影响利率的话，必须以货币流通速度不变为前提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货币政策的外部时滞也影响政策效果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在开放经济中，货币政策的效果还要因为资金在国际上流动而受到影响。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2720" y="6381720"/>
            <a:ext cx="289080" cy="476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两种政策混合使用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929800" cy="439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两种政策混合使用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2421000"/>
          <a:ext cx="7931160" cy="3198600"/>
        </p:xfrm>
        <a:graphic>
          <a:graphicData uri="http://schemas.openxmlformats.org/drawingml/2006/table">
            <a:tbl>
              <a:tblPr/>
              <a:tblGrid>
                <a:gridCol w="936720"/>
                <a:gridCol w="3970080"/>
                <a:gridCol w="1608480"/>
                <a:gridCol w="14158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政策混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产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利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扩张性财政政策和紧缩性货币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不确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上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紧缩性财政政策和紧缩性货币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不确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紧缩性财政政策和扩张性货币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不确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下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扩张性财政政策和扩张性货币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不确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684360" y="1628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财政政策和货币政策混合使用的政策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32720" y="6381720"/>
            <a:ext cx="289080" cy="476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财政政策的作用和效果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政策的作用和效果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 财政政策和货币政策的影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 财政政策效果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第三节     货币政策效果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第四节     两种政策的混合使用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财政政策和货币政策的影响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362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财政政策和货币政策的影响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95280" y="1700280"/>
          <a:ext cx="8497800" cy="4649760"/>
        </p:xfrm>
        <a:graphic>
          <a:graphicData uri="http://schemas.openxmlformats.org/drawingml/2006/table">
            <a:tbl>
              <a:tblPr/>
              <a:tblGrid>
                <a:gridCol w="2089080"/>
                <a:gridCol w="1582920"/>
                <a:gridCol w="1584360"/>
                <a:gridCol w="1584000"/>
                <a:gridCol w="16574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政策种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对利率的影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对消费的影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对投资的影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对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GDP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的影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财政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减少所得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上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财政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增加政府开支，包括政府购买和转移支付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上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财政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投资津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上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货币政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扩大货币供给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下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增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8532720" y="6381720"/>
            <a:ext cx="289080" cy="4762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财政政策效果的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-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图形分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96360" cy="375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4360" y="5877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财政政策效果因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IS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斜率而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408720" cy="394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55897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财政政策效果因</a:t>
            </a: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LM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斜率而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凯恩斯主义的极端情况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29440" cy="456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48360" cy="3628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47640" y="5516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IS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在凯恩斯陷阱中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财政政策效果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056360" cy="4233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92360" y="609300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Tahoma"/>
              </a:rPr>
              <a:t>IS</a:t>
            </a: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垂直时货币政策完全无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6:17Z</dcterms:created>
  <dc:creator/>
  <dc:description/>
  <dc:language>en-US</dc:language>
  <cp:lastModifiedBy>zl</cp:lastModifiedBy>
  <dcterms:modified xsi:type="dcterms:W3CDTF">2014-12-15T08:16:2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