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3.wmf" ContentType="image/x-wmf"/>
  <Override PartName="/ppt/media/image22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png" ContentType="image/pn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9BD-EC9A-410A-AF85-613E02FD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866-9D6F-4030-B575-0FF17716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2FC-E347-4CF3-B4A2-35BFEE89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D77-2EB5-484A-9236-853E5D16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AFCB-EC6D-4066-BB18-FF4DFE42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98C1-3EF2-4BB2-A688-1066E0E0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E016-C49A-4174-85FB-25BA48CA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F8EC-EDED-43D1-8F82-9FF18615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2278-DEE2-4919-8A83-06B3D2A8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8076-268F-4B5D-8255-A51AAA61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762E-FA49-4408-8BA5-D45185CB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9A3-B4D0-477F-9044-C4C6DF72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957E-5A4A-44A9-8741-9FB9883A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17EA-3B50-4536-AE0A-62DFB8C1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95A5-D620-4B6A-891E-447A2698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36C0-00F4-4B39-A36D-59BA3420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A288-BDEA-4C46-BDB7-35573571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9D9-D5BB-46A2-9888-A29D424B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973-3714-4999-B0CA-73171310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877-C31F-4EC1-B659-BAC06C27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184-1033-4778-8C6D-C476A615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C4D-64A5-4CEA-8083-56021FA1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1D3-EE27-4ACC-B8EB-55CE085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3EC-AFB4-46D6-B491-E93B1A1A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755C-5FF8-4722-B7BC-11EC9E82B0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8514-6612-4882-AED2-E2FF8D368CE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7"/>
          </p:nvPr>
        </p:nvSpPr>
        <p:spPr>
          <a:xfrm>
            <a:off x="3809520" y="6461280"/>
            <a:ext cx="49532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63794"/>
                </a:solidFill>
                <a:latin typeface="Verdana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63794"/>
                </a:solidFill>
                <a:latin typeface="Verdana"/>
                <a:ea typeface="黑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1440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8"/>
          </p:nvPr>
        </p:nvSpPr>
        <p:spPr>
          <a:xfrm>
            <a:off x="-360" y="9140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0,5,&#31532;&#19968;&#33410; &#22343;&#34913;&#20135;&#20986;" TargetMode="External"/><Relationship Id="rId2" Type="http://schemas.openxmlformats.org/officeDocument/2006/relationships/hyperlink" Target="264,9,&#31532;&#20108;&#33410; &#20975;&#24681;&#26031;&#30340;&#28040;&#36153;&#29702;&#35770;" TargetMode="External"/><Relationship Id="rId3" Type="http://schemas.openxmlformats.org/officeDocument/2006/relationships/hyperlink" Target="274,19,&#31532;&#19977;&#33410; &#20851;&#20110;&#28040;&#36153;&#20989;&#25968;&#30340;&#20854;&#20182;&#29702;&#35770;" TargetMode="External"/><Relationship Id="rId4" Type="http://schemas.openxmlformats.org/officeDocument/2006/relationships/hyperlink" Target="278,23,&#31532;&#22235;&#33410; &#20004;&#37096;&#38376;&#32463;&#27982;&#20013;&#22269;&#27665;&#25910;&#20837;&#30340;&#20915;&#23450;&#21450;&#21464;&#21160;" TargetMode="External"/><Relationship Id="rId5" Type="http://schemas.openxmlformats.org/officeDocument/2006/relationships/hyperlink" Target="281,26,&#31532;&#20116;&#33410; &#20056;&#25968;&#35770;" TargetMode="External"/><Relationship Id="rId6" Type="http://schemas.openxmlformats.org/officeDocument/2006/relationships/hyperlink" Target="282,27,&#31532;&#20845;&#33410; &#19977;&#37096;&#38376;&#32463;&#27982;&#30340;&#25910;&#20837;&#20915;&#23450;" TargetMode="External"/><Relationship Id="rId7" Type="http://schemas.openxmlformats.org/officeDocument/2006/relationships/hyperlink" Target="284,29,&#31532;&#19971;&#33410; &#19977;&#37096;&#38376;&#32463;&#27982;&#20013;&#21508;&#31181;&#20056;&#25968;" TargetMode="External"/><Relationship Id="rId8" Type="http://schemas.openxmlformats.org/officeDocument/2006/relationships/hyperlink" Target="288,33,&#31532;&#20843;&#33410; &#22235;&#37096;&#38376;&#32463;&#27982;&#20013;&#22269;&#27665;&#25910;&#20837;&#30340;&#20915;&#23450;" TargetMode="External"/><Relationship Id="rId9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第十三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简单国民收入决定理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凯恩斯的消费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624720" cy="48182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11280" y="134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消费曲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12682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Tahoma"/>
              </a:rPr>
              <a:t>消费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凯恩斯的消费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6193080" cy="4954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50920" y="134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Tahoma"/>
              </a:rPr>
              <a:t>线性消费函数</a:t>
            </a: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凯恩斯的消费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储蓄函数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 = s (y)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凯恩斯的消费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68360" y="1449360"/>
          <a:ext cx="8351640" cy="5249880"/>
        </p:xfrm>
        <a:graphic>
          <a:graphicData uri="http://schemas.openxmlformats.org/drawingml/2006/table">
            <a:tbl>
              <a:tblPr/>
              <a:tblGrid>
                <a:gridCol w="447480"/>
                <a:gridCol w="1490400"/>
                <a:gridCol w="1490760"/>
                <a:gridCol w="1566720"/>
                <a:gridCol w="1714680"/>
                <a:gridCol w="16416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收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消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储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 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s</a:t>
                      </a: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边际储蓄倾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MPS</a:t>
                      </a: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平均储蓄倾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APS</a:t>
                      </a:r>
                      <a:r>
                        <a:rPr b="0" lang="zh-CN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43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9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2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28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3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-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6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-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2556000" y="1052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某家户储蓄表           （单位：美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凯恩斯的消费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09080" cy="4483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484360" y="134136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Tahoma"/>
              </a:rPr>
              <a:t>储蓄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凯恩斯的消费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09080" cy="4597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39640" y="1268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线性消费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凯恩斯的消费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127640" cy="451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95280" y="12682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三 消费曲线和储蓄曲线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凯恩斯的消费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四 家庭消费函数和社会消费函数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从家户消费函数求取社会消费函数时的一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系列限制条件：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国民收入的分配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政府税收政策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公司未分配利润在利润中所占的比例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101080" y="5950080"/>
            <a:ext cx="574560" cy="647640"/>
          </a:xfrm>
          <a:custGeom>
            <a:avLst/>
            <a:gdLst>
              <a:gd name="textAreaLeft" fmla="*/ 236880 w 574560"/>
              <a:gd name="textAreaRight" fmla="*/ 337680 w 5745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关于消费函数的其他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相对收入消费理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7201080" cy="377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关于消费函数的其他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生命周期的消费理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公式：</a:t>
            </a:r>
            <a:r>
              <a:rPr b="0" lang="en-US" sz="4400" spc="-1" strike="noStrike">
                <a:solidFill>
                  <a:srgbClr val="163794"/>
                </a:solidFill>
                <a:latin typeface="Arial"/>
              </a:rPr>
              <a:t>C = aWR + cYL</a:t>
            </a:r>
            <a:endParaRPr b="0" lang="en-US" sz="4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重要问题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产品市场的国民收入决定理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关于消费函数的其他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永久收入的消费理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永久收入的消费理论认为：消费者的消费支出不是由他的现期收入决定，而是由他的永久收入决定。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关于消费函数的其他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四 影响消费的其他因素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利率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价格水平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收入分配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28000" y="587700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四节 两部门经济中国民收入的决定及变动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7859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一 两部门经济中收入的决定</a:t>
            </a: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使用消费函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数决定收入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3213000"/>
          <a:ext cx="8280360" cy="337176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收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消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储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投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30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5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7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684360" y="263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均衡收入的决定                                     单位：亿美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四节 两部门经济中国民收入的决定及变动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5280" y="5877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消费加投资曲线和</a:t>
            </a: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度线相交决定收入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7632720" cy="407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四节 两部门经济中国民收入的决定及变动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使用储蓄函数决定收入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416720" cy="3600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692360" y="5516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储蓄曲线和投资曲线相交决定收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85080" y="5734080"/>
            <a:ext cx="719280" cy="719280"/>
          </a:xfrm>
          <a:custGeom>
            <a:avLst/>
            <a:gdLst>
              <a:gd name="textAreaLeft" fmla="*/ 296280 w 719280"/>
              <a:gd name="textAreaRight" fmla="*/ 423000 w 719280"/>
              <a:gd name="textAreaTop" fmla="*/ 296280 h 719280"/>
              <a:gd name="textAreaBottom" fmla="*/ 423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五节 乘数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696360" cy="4628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6021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乘数效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01080" y="580536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六节 三部门经济的收入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135640" cy="3029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26920" y="522936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Tahoma"/>
              </a:rPr>
              <a:t>均衡条件：</a:t>
            </a:r>
            <a:r>
              <a:rPr b="0" lang="en-US" sz="3200" spc="-1" strike="noStrike">
                <a:solidFill>
                  <a:srgbClr val="163794"/>
                </a:solidFill>
                <a:latin typeface="Tahoma"/>
              </a:rPr>
              <a:t>I + g = s +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六节 三部门经济的收入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定量税变动改变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+t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的截距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8064720" cy="35845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101080" y="580536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七节 三部门经济中各种乘数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0755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一 政府购买支出乘数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163794"/>
                </a:solidFill>
                <a:latin typeface="Arial"/>
              </a:rPr>
              <a:t>是指收入变动对引起这种变动的政府购买支出变动的比率。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3794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163794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163794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=                        =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91440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3492360" y="2924280"/>
          <a:ext cx="116064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2924280"/>
                    <a:ext cx="11606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七节 三部门经济中各种乘数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二 税收乘数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163794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163794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16379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=            =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132000" y="2637000"/>
          <a:ext cx="97812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637000"/>
                    <a:ext cx="9781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572000" y="2492280"/>
          <a:ext cx="882720" cy="14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492280"/>
                    <a:ext cx="882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主要内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第一节      均衡产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第二节      凯恩斯的消费理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3"/>
              </a:rPr>
              <a:t>第三节      关于消费函数的其他理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4"/>
              </a:rPr>
              <a:t>第四节      两部门经济中国民收入的决定及		    变动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5"/>
              </a:rPr>
              <a:t>第五节      乘数论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6"/>
              </a:rPr>
              <a:t>第六节      三部门经济的收入决定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7"/>
              </a:rPr>
              <a:t>第七节      三部门经济中各种乘数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8"/>
              </a:rPr>
              <a:t>第八节      四部门经济中国民收入的决定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七节 三部门经济中各种乘数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569412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三 政府转移支付乘数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163794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163794"/>
                </a:solidFill>
                <a:latin typeface="Arial"/>
              </a:rPr>
              <a:t>t</a:t>
            </a:r>
            <a:r>
              <a:rPr b="0" lang="en-US" sz="4000" spc="-1" strike="noStrike" baseline="-35000">
                <a:solidFill>
                  <a:srgbClr val="163794"/>
                </a:solidFill>
                <a:latin typeface="Arial"/>
              </a:rPr>
              <a:t>r </a:t>
            </a:r>
            <a:r>
              <a:rPr b="0" lang="en-US" sz="4000" spc="-1" strike="noStrike">
                <a:solidFill>
                  <a:srgbClr val="163794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627280" y="2276640"/>
          <a:ext cx="158760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276640"/>
                    <a:ext cx="15876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七节 三部门经济中各种乘数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152000"/>
            <a:ext cx="79311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四 平衡预算乘数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             </a:t>
            </a:r>
            <a:r>
              <a:rPr b="0" lang="en-US" sz="4400" spc="-1" strike="noStrike">
                <a:solidFill>
                  <a:srgbClr val="163794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163794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163794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163794"/>
                </a:solidFill>
                <a:latin typeface="Arial"/>
              </a:rPr>
              <a:t>＝ </a:t>
            </a:r>
            <a:r>
              <a:rPr b="0" lang="en-US" sz="4400" spc="-1" strike="noStrike">
                <a:solidFill>
                  <a:srgbClr val="163794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163794"/>
                </a:solidFill>
                <a:latin typeface="Arial"/>
              </a:rPr>
              <a:t>＝        ＝</a:t>
            </a:r>
            <a:endParaRPr b="0" lang="en-US" sz="4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0" y="2781360"/>
          <a:ext cx="106056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781360"/>
                    <a:ext cx="10605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6516720" y="2781360"/>
          <a:ext cx="1047600" cy="17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781360"/>
                    <a:ext cx="10476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8244000" y="5805360"/>
            <a:ext cx="431640" cy="648000"/>
          </a:xfrm>
          <a:custGeom>
            <a:avLst/>
            <a:gdLst>
              <a:gd name="textAreaLeft" fmla="*/ 177840 w 431640"/>
              <a:gd name="textAreaRight" fmla="*/ 253800 w 431640"/>
              <a:gd name="textAreaTop" fmla="*/ 267120 h 648000"/>
              <a:gd name="textAreaBottom" fmla="*/ 38088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八节 四部门经济中国民收入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68515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一 四部门经济中的收入决定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163794"/>
                </a:solidFill>
                <a:latin typeface="Arial"/>
              </a:rPr>
              <a:t>y = c + I + g + nx</a:t>
            </a: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3357720"/>
            <a:ext cx="144360" cy="863280"/>
          </a:xfrm>
          <a:prstGeom prst="downArrow">
            <a:avLst>
              <a:gd name="adj1" fmla="val 50000"/>
              <a:gd name="adj2" fmla="val 149501"/>
            </a:avLst>
          </a:prstGeom>
          <a:solidFill>
            <a:srgbClr val="163794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92360" y="4797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3794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163794"/>
                </a:solidFill>
                <a:latin typeface="Tahoma"/>
              </a:rPr>
              <a:t>Y 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924360" y="4437000"/>
          <a:ext cx="215892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4437000"/>
                    <a:ext cx="21589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八节 四部门经济中国民收入的决定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四 部门经济中的乘数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1106640" cy="2017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68360" y="3573360"/>
            <a:ext cx="18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63794"/>
                </a:solidFill>
                <a:latin typeface="Tahoma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276720" y="3284640"/>
          <a:ext cx="2016000" cy="15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284640"/>
                    <a:ext cx="20160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8244000" y="6021360"/>
            <a:ext cx="576000" cy="57636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均衡产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最简单的经济关系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1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假设所分析的经济中不存在政府，也不存在对外贸易，只有家户部门和企业部门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假设不论需求量为多少，经济制度均能以不变的价格提供相应的供给量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假设折旧和公司未分配利润未零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均衡产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 均衡产出的概念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        ——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和总需求相等的产出成为均衡产出或收入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公式：</a:t>
            </a:r>
            <a:r>
              <a:rPr b="0" lang="en-US" sz="4400" spc="-1" strike="noStrike">
                <a:solidFill>
                  <a:srgbClr val="163794"/>
                </a:solidFill>
                <a:latin typeface="Arial"/>
              </a:rPr>
              <a:t>y = c + i</a:t>
            </a:r>
            <a:endParaRPr b="0" lang="en-US" sz="4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均衡产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459640" cy="406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均衡产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 投资等于储蓄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均衡产出的条件：</a:t>
            </a:r>
            <a:r>
              <a:rPr b="0" lang="en-US" sz="4400" spc="-1" strike="noStrike">
                <a:solidFill>
                  <a:srgbClr val="163794"/>
                </a:solidFill>
                <a:latin typeface="Arial"/>
              </a:rPr>
              <a:t>i = s</a:t>
            </a:r>
            <a:endParaRPr b="0" lang="en-US" sz="4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这里的投资等于储蓄，指经济要达到均衡，计划投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资必须等于计划储蓄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6021360"/>
            <a:ext cx="647640" cy="503280"/>
          </a:xfrm>
          <a:custGeom>
            <a:avLst/>
            <a:gdLst>
              <a:gd name="textAreaLeft" fmla="*/ 266760 w 647640"/>
              <a:gd name="textAreaRight" fmla="*/ 380880 w 6476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凯恩斯的消费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 消费函数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163794"/>
                </a:solidFill>
                <a:latin typeface="Arial"/>
              </a:rPr>
              <a:t>c = c (y)</a:t>
            </a:r>
            <a:endParaRPr b="0" lang="en-US" sz="4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凯恩斯的消费理论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8" name="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第二节 凯恩斯的消费理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79280" y="1700280"/>
          <a:ext cx="8642520" cy="5352840"/>
        </p:xfrm>
        <a:graphic>
          <a:graphicData uri="http://schemas.openxmlformats.org/drawingml/2006/table">
            <a:tbl>
              <a:tblPr/>
              <a:tblGrid>
                <a:gridCol w="720720"/>
                <a:gridCol w="2305080"/>
                <a:gridCol w="1911240"/>
                <a:gridCol w="1646280"/>
                <a:gridCol w="205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收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消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边际消费倾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平均消费倾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467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9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2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28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3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84360" y="1341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某家庭消费函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19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某家庭消费函数   （单位：美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8:13:57Z</dcterms:created>
  <dc:creator/>
  <dc:description/>
  <dc:language>en-US</dc:language>
  <cp:lastModifiedBy>zl</cp:lastModifiedBy>
  <dcterms:modified xsi:type="dcterms:W3CDTF">2014-12-15T08:14:4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