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2.png" ContentType="image/png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AB3A-7501-4E97-9B1D-514E061C1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093E-9AE2-4A60-A4BA-A84D5268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CADF-B556-42EF-95DA-C67DA322C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F152-BADA-46C7-81D1-AB09CA2EC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0C1C-80C9-4C68-86DB-0C5F71E62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3E06-1EBF-4625-9A8B-1AEC4620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728E-A1F2-422B-949D-6B8708FA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52B5-58A3-4729-A8DE-5DA64ED3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5E3E-D6F2-410E-BAF6-EDE9E661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304560" y="7632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52FB-9DEC-4F0F-BB12-8A0FD31A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DA37-6AED-4CF4-9D87-B5C43851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98C5-DE02-46E0-87C4-34D81436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AB20F-CA4F-40BD-B12C-F29DEB7E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771E-AE09-4AA2-8004-9D8D90C0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468C-8913-4EBE-BFB5-71FCFD04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B7A3-3BB6-4161-A68E-AD5E4F121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6AC7-61A2-45B3-A303-6C9C5759C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F962-E1E3-4AA7-AF37-60BFC7E9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304560" y="7632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7F92-1B2A-4C99-B178-BAF7CF26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304560" y="7632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60A5-2AAE-4B04-A5B4-A70F1975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4560" y="7632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1F9D-9AF2-48F7-841B-423B645B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A758-9DAD-4297-AEBD-95C08E55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238B-AF64-4F9D-82D3-04A8E9AD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53FE-DA01-4F35-A483-1AA398F5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60EF-252D-427B-9A53-D1D6EAF2329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68B0-6CAB-4475-B257-656DF6E92A3F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ftr" idx="7"/>
          </p:nvPr>
        </p:nvSpPr>
        <p:spPr>
          <a:xfrm>
            <a:off x="3809520" y="6461280"/>
            <a:ext cx="49532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63794"/>
                </a:solidFill>
                <a:latin typeface="Verdana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63794"/>
                </a:solidFill>
                <a:latin typeface="Verdana"/>
                <a:ea typeface="黑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914400"/>
            <a:ext cx="9144000" cy="2444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dt" idx="8"/>
          </p:nvPr>
        </p:nvSpPr>
        <p:spPr>
          <a:xfrm>
            <a:off x="-360" y="914040"/>
            <a:ext cx="845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6611760"/>
            <a:ext cx="9144000" cy="260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4869000"/>
            <a:ext cx="9144000" cy="72072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宋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22860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260,5,&#31532;&#19968;&#33410; &#22833;&#19994;&#30340;&#25551;&#36848;" TargetMode="External"/><Relationship Id="rId2" Type="http://schemas.openxmlformats.org/officeDocument/2006/relationships/hyperlink" Target="262,7,&#31532;&#20108;&#33410; &#22833;&#19994;&#30340;&#32463;&#27982;&#23398;&#35299;&#37322;" TargetMode="External"/><Relationship Id="rId3" Type="http://schemas.openxmlformats.org/officeDocument/2006/relationships/hyperlink" Target="263,8,&#31532;&#19977;&#33410; &#22833;&#19994;&#30340;&#24433;&#21709;&#19982;&#22885;&#32943;&#23450;&#24459;" TargetMode="External"/><Relationship Id="rId4" Type="http://schemas.openxmlformats.org/officeDocument/2006/relationships/hyperlink" Target="265,10,&#31532;&#22235;&#33410; &#36890;&#36135;&#33192;&#32960;&#30340;&#25551;&#36848;" TargetMode="External"/><Relationship Id="rId5" Type="http://schemas.openxmlformats.org/officeDocument/2006/relationships/hyperlink" Target="268,13,&#31532;&#20116;&#33410; &#36890;&#36135;&#33192;&#32960;&#30340;&#21407;&#22240;" TargetMode="External"/><Relationship Id="rId6" Type="http://schemas.openxmlformats.org/officeDocument/2006/relationships/hyperlink" Target="272,17,&#31532;&#20845;&#33410; &#36890;&#36135;&#33192;&#32960;&#30340;&#32463;&#27982;&#25928;&#24212;" TargetMode="External"/><Relationship Id="rId7" Type="http://schemas.openxmlformats.org/officeDocument/2006/relationships/hyperlink" Target="274,19,&#31532;&#19971;&#33410; &#22833;&#19994;&#19982;&#36890;&#36135;&#33192;&#32960;&#30340;&#20851;&#31995;&#8212;&#8212;&#33778;&#21033;&#26222;&#26031;        &#26354;&#32447;" TargetMode="External"/><Relationship Id="rId8" Type="http://schemas.openxmlformats.org/officeDocument/2006/relationships/hyperlink" Target="274,19,&#31532;&#19971;&#33410; &#22833;&#19994;&#19982;&#36890;&#36135;&#33192;&#32960;&#30340;&#20851;&#31995;&#8212;&#8212;&#33778;&#21033;&#26222;&#26031;        &#26354;&#32447;" TargetMode="External"/><Relationship Id="rId9" Type="http://schemas.openxmlformats.org/officeDocument/2006/relationships/hyperlink" Target="274,19,&#31532;&#19971;&#33410; &#22833;&#19994;&#19982;&#36890;&#36135;&#33192;&#32960;&#30340;&#20851;&#31995;&#8212;&#8212;&#33778;&#21033;&#26222;&#26031;        &#26354;&#32447;" TargetMode="External"/><Relationship Id="rId10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第十八章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失业与通货膨胀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四节 通货膨胀的描述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38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二 通货膨胀的衡量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通货膨胀率：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276720" y="2276640"/>
            <a:ext cx="2808000" cy="1342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四节 通货膨胀的描述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三 通货膨胀的分类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1 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按照价格上升的速度分类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2 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按照对价格影响的差别分类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3 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按照人们的预期程度加以区分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459640" y="6237360"/>
            <a:ext cx="289080" cy="431640"/>
          </a:xfrm>
          <a:custGeom>
            <a:avLst/>
            <a:gdLst>
              <a:gd name="textAreaLeft" fmla="*/ 119160 w 289080"/>
              <a:gd name="textAreaRight" fmla="*/ 169920 w 28908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五节 通货膨胀的原因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38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一 作为货币现象的通货膨胀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979640" y="3141720"/>
            <a:ext cx="4824360" cy="1170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五节 通货膨胀的原因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二 需求拉动通货膨胀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763640" y="2060640"/>
            <a:ext cx="5761080" cy="42717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692360" y="630864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63794"/>
                </a:solidFill>
                <a:latin typeface="Tahoma"/>
              </a:rPr>
              <a:t>需求拉动的通货膨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五节 通货膨胀的原因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三 成本推动通货膨胀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6048360" cy="43369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47640" y="609300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63794"/>
                </a:solidFill>
                <a:latin typeface="Tahoma"/>
              </a:rPr>
              <a:t>成本推动型通货膨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五节 通货膨胀的原因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四 结构性通货膨胀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五 通货膨胀的持续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8604360" cy="36986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900000" y="6021360"/>
            <a:ext cx="73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63794"/>
                </a:solidFill>
                <a:latin typeface="Tahoma"/>
              </a:rPr>
              <a:t>通货膨胀螺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459640" y="6237360"/>
            <a:ext cx="289080" cy="431640"/>
          </a:xfrm>
          <a:custGeom>
            <a:avLst/>
            <a:gdLst>
              <a:gd name="textAreaLeft" fmla="*/ 119160 w 289080"/>
              <a:gd name="textAreaRight" fmla="*/ 169920 w 28908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六节 通货膨胀的经济效应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一 通货膨胀的再分配效应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1 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通货膨胀不利于靠固定的货币收入维持生活的人。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2 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通货膨胀对储蓄者不利。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3 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通货膨胀还可以在债务人和债权人的利益而使债务人获益。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六节 通货膨胀的经济效应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二 通货膨胀的产出效应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第一种情况：随着通货膨胀的出现，产出增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                      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加，收入增加。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第二种情况：成本推动收通货膨胀会使收入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                      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或产量减少，从而引致失业。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第三种情况：超级通货膨胀导致经济崩溃。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459640" y="6237360"/>
            <a:ext cx="289080" cy="431640"/>
          </a:xfrm>
          <a:custGeom>
            <a:avLst/>
            <a:gdLst>
              <a:gd name="textAreaLeft" fmla="*/ 119160 w 289080"/>
              <a:gd name="textAreaRight" fmla="*/ 169920 w 28908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第七节 失业与通货膨胀的关系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菲利普斯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曲线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一 菲利普斯曲线的提出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5688000" cy="3924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403280" y="602136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63794"/>
                </a:solidFill>
                <a:latin typeface="Tahoma"/>
              </a:rPr>
              <a:t>菲利普斯曲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第七节 失业与通货膨胀的关系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菲利普斯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曲线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8101080" cy="46832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258920" y="595008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3794"/>
                </a:solidFill>
                <a:latin typeface="Tahoma"/>
              </a:rPr>
              <a:t>1961</a:t>
            </a:r>
            <a:r>
              <a:rPr b="0" lang="zh-CN" sz="1800" spc="-1" strike="noStrike">
                <a:solidFill>
                  <a:srgbClr val="163794"/>
                </a:solidFill>
                <a:latin typeface="Tahoma"/>
              </a:rPr>
              <a:t>－</a:t>
            </a:r>
            <a:r>
              <a:rPr b="0" lang="en-US" sz="1800" spc="-1" strike="noStrike">
                <a:solidFill>
                  <a:srgbClr val="163794"/>
                </a:solidFill>
                <a:latin typeface="Tahoma"/>
              </a:rPr>
              <a:t>1969</a:t>
            </a:r>
            <a:r>
              <a:rPr b="0" lang="zh-CN" sz="1800" spc="-1" strike="noStrike">
                <a:solidFill>
                  <a:srgbClr val="163794"/>
                </a:solidFill>
                <a:latin typeface="Tahoma"/>
              </a:rPr>
              <a:t>美国的通货膨胀与失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重要问题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对失业研究成果的概略说明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对通货膨胀研究成果的概略说明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第七节 失业与通货膨胀的关系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菲利普斯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曲线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二 菲利普斯曲线的政策含义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048720" cy="4384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258920" y="6308640"/>
            <a:ext cx="76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63794"/>
                </a:solidFill>
                <a:latin typeface="Tahoma"/>
              </a:rPr>
              <a:t>菲利普斯曲线与政策运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第七节 失业与通货膨胀的关系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菲利普斯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曲线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三 附加预期的菲利普斯曲线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337440" cy="4593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第七节 失业与通货膨胀的关系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菲利普斯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曲线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8640720" cy="43545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755640" y="5950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63794"/>
                </a:solidFill>
                <a:latin typeface="Tahoma"/>
              </a:rPr>
              <a:t>美国自</a:t>
            </a:r>
            <a:r>
              <a:rPr b="0" lang="en-US" sz="2400" spc="-1" strike="noStrike">
                <a:solidFill>
                  <a:srgbClr val="163794"/>
                </a:solidFill>
                <a:latin typeface="Tahoma"/>
              </a:rPr>
              <a:t>1961</a:t>
            </a:r>
            <a:r>
              <a:rPr b="0" lang="zh-CN" sz="2400" spc="-1" strike="noStrike">
                <a:solidFill>
                  <a:srgbClr val="163794"/>
                </a:solidFill>
                <a:latin typeface="Tahoma"/>
              </a:rPr>
              <a:t>年以来的通货膨胀与失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第七节 失业与通货膨胀的关系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菲利普斯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曲线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028000" cy="46180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826920" y="61657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63794"/>
                </a:solidFill>
                <a:latin typeface="Tahoma"/>
              </a:rPr>
              <a:t>通货膨胀预期与短期菲利普斯曲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第七节 失业与通货膨胀的关系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菲利普斯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曲线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四 长期菲利普斯曲线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6769440" cy="46162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042920" y="623736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63794"/>
                </a:solidFill>
                <a:latin typeface="Tahoma"/>
              </a:rPr>
              <a:t>短期和长期菲利普斯曲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459640" y="6237360"/>
            <a:ext cx="289080" cy="431640"/>
          </a:xfrm>
          <a:custGeom>
            <a:avLst/>
            <a:gdLst>
              <a:gd name="textAreaLeft" fmla="*/ 119160 w 289080"/>
              <a:gd name="textAreaRight" fmla="*/ 169920 w 28908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主要内容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99ff"/>
                </a:solidFill>
                <a:uFillTx/>
                <a:latin typeface="Arial"/>
                <a:hlinkClick r:id="rId1"/>
              </a:rPr>
              <a:t>第一节     失业的描述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99ff"/>
                </a:solidFill>
                <a:uFillTx/>
                <a:latin typeface="Arial"/>
                <a:hlinkClick r:id="rId2"/>
              </a:rPr>
              <a:t>第二节     失业的经济学解释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99ff"/>
                </a:solidFill>
                <a:uFillTx/>
                <a:latin typeface="Arial"/>
                <a:hlinkClick r:id="rId3"/>
              </a:rPr>
              <a:t>第三节     失业的影响与奥肯定律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99ff"/>
                </a:solidFill>
                <a:uFillTx/>
                <a:latin typeface="Arial"/>
                <a:hlinkClick r:id="rId4"/>
              </a:rPr>
              <a:t>第四节     通货膨胀的描述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99ff"/>
                </a:solidFill>
                <a:uFillTx/>
                <a:latin typeface="Arial"/>
                <a:hlinkClick r:id="rId5"/>
              </a:rPr>
              <a:t>第五节     通货膨胀的原因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99ff"/>
                </a:solidFill>
                <a:uFillTx/>
                <a:latin typeface="Arial"/>
                <a:hlinkClick r:id="rId6"/>
              </a:rPr>
              <a:t>第六节     通货膨胀的经济原因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99ff"/>
                </a:solidFill>
                <a:uFillTx/>
                <a:latin typeface="Arial"/>
                <a:hlinkClick r:id="rId7"/>
              </a:rPr>
              <a:t>第七节     失业与通货膨胀的关系</a:t>
            </a:r>
            <a:r>
              <a:rPr b="0" lang="en-US" sz="3200" spc="-1" strike="noStrike" u="sng">
                <a:solidFill>
                  <a:srgbClr val="6699ff"/>
                </a:solidFill>
                <a:uFillTx/>
                <a:latin typeface="宋体"/>
                <a:hlinkClick r:id="rId8"/>
              </a:rPr>
              <a:t>—</a:t>
            </a:r>
            <a:r>
              <a:rPr b="0" lang="zh-CN" sz="3200" spc="-1" strike="noStrike" u="sng">
                <a:solidFill>
                  <a:srgbClr val="6699ff"/>
                </a:solidFill>
                <a:uFillTx/>
                <a:latin typeface="宋体"/>
                <a:hlinkClick r:id="rId9"/>
              </a:rPr>
              <a:t>菲利普		  斯曲线 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一节 失业的描述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一 失业的数据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6840360" cy="3978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332000" y="602136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3794"/>
                </a:solidFill>
                <a:latin typeface="Tahoma"/>
              </a:rPr>
              <a:t>1953</a:t>
            </a:r>
            <a:r>
              <a:rPr b="0" lang="zh-CN" sz="1800" spc="-1" strike="noStrike">
                <a:solidFill>
                  <a:srgbClr val="163794"/>
                </a:solidFill>
                <a:latin typeface="Tahoma"/>
              </a:rPr>
              <a:t>－</a:t>
            </a:r>
            <a:r>
              <a:rPr b="0" lang="en-US" sz="1800" spc="-1" strike="noStrike">
                <a:solidFill>
                  <a:srgbClr val="163794"/>
                </a:solidFill>
                <a:latin typeface="Tahoma"/>
              </a:rPr>
              <a:t>2003</a:t>
            </a:r>
            <a:r>
              <a:rPr b="0" lang="zh-CN" sz="1800" spc="-1" strike="noStrike">
                <a:solidFill>
                  <a:srgbClr val="163794"/>
                </a:solidFill>
                <a:latin typeface="Tahoma"/>
              </a:rPr>
              <a:t>美国的年失业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一节 失业的描述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二 失业的分类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1 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摩擦性失业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2 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结构性失业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3 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周期性失业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三 自然失业率和自然就业率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459640" y="6237360"/>
            <a:ext cx="289080" cy="431640"/>
          </a:xfrm>
          <a:custGeom>
            <a:avLst/>
            <a:gdLst>
              <a:gd name="textAreaLeft" fmla="*/ 119160 w 289080"/>
              <a:gd name="textAreaRight" fmla="*/ 169920 w 28908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二节 失业的经济学解释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332000" y="2060640"/>
            <a:ext cx="7343640" cy="42829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8459640" y="6237360"/>
            <a:ext cx="289080" cy="431640"/>
          </a:xfrm>
          <a:custGeom>
            <a:avLst/>
            <a:gdLst>
              <a:gd name="textAreaLeft" fmla="*/ 119160 w 289080"/>
              <a:gd name="textAreaRight" fmla="*/ 169920 w 28908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三节 失业的影响与奥肯定律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38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一 失业的影响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8256600" cy="4077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三节 失业的影响与奥肯定律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二 奥肯定律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失业率每高于自然失业率一个百分点，实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际</a:t>
            </a: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GDP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将降低于潜在</a:t>
            </a: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GDP2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个百分点。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459640" y="6237360"/>
            <a:ext cx="289080" cy="431640"/>
          </a:xfrm>
          <a:custGeom>
            <a:avLst/>
            <a:gdLst>
              <a:gd name="textAreaLeft" fmla="*/ 119160 w 289080"/>
              <a:gd name="textAreaRight" fmla="*/ 169920 w 28908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四节 通货膨胀的描述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一 通货膨胀的数据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481800" cy="45118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619280" y="630864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3794"/>
                </a:solidFill>
                <a:latin typeface="Tahoma"/>
              </a:rPr>
              <a:t>1953</a:t>
            </a:r>
            <a:r>
              <a:rPr b="0" lang="zh-CN" sz="1800" spc="-1" strike="noStrike">
                <a:solidFill>
                  <a:srgbClr val="163794"/>
                </a:solidFill>
                <a:latin typeface="Tahoma"/>
              </a:rPr>
              <a:t>－</a:t>
            </a:r>
            <a:r>
              <a:rPr b="0" lang="en-US" sz="1800" spc="-1" strike="noStrike">
                <a:solidFill>
                  <a:srgbClr val="163794"/>
                </a:solidFill>
                <a:latin typeface="Tahoma"/>
              </a:rPr>
              <a:t>2003</a:t>
            </a:r>
            <a:r>
              <a:rPr b="0" lang="zh-CN" sz="1800" spc="-1" strike="noStrike">
                <a:solidFill>
                  <a:srgbClr val="163794"/>
                </a:solidFill>
                <a:latin typeface="Tahoma"/>
              </a:rPr>
              <a:t>美国的通货膨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5T08:18:18Z</dcterms:created>
  <dc:creator/>
  <dc:description/>
  <dc:language>en-US</dc:language>
  <cp:lastModifiedBy>zl</cp:lastModifiedBy>
  <dcterms:modified xsi:type="dcterms:W3CDTF">2014-12-15T08:18:26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