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215-065C-4CFD-B86B-9ABA4367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D36-3D8D-4D84-8E39-4E886405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541-27F8-4944-A757-05F9E7D3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F4E-619E-461C-AF37-A8410A29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AC3-8886-4B79-9279-729FBBA8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F59-E327-42D2-B49D-8F940AB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C05B-0453-4C71-98C9-FDC37F0F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A4BA-DA6F-4B3A-8047-36BC7693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B61-251B-431B-8688-11BC71F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60CD-2103-4A25-82D7-E3F0B4E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E65-C976-4155-AFE6-A30FA4C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DC7-A360-4324-9706-5249D65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3B07-4D5D-41E9-B233-98B6CD7A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FA97-1835-4CEB-841B-B2752E6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A315-F39B-4525-9F6B-FE02034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2ABF-43A2-4161-A002-8E96DE37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41E9-7D6E-43A0-A5D9-5F023795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94E-83FE-427E-A42F-E8CA3C51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C7B-FEF3-4492-994E-016AC59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7FA-2A2F-47FA-BBAC-186A39F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94D-4458-49FD-9B09-F6290DEE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878-A354-4751-8FD2-DE3E558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B54-0D61-49C4-AD00-105FD96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B9B-14C7-4774-9144-BC96D56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443-B44C-432B-9C51-C32AEFC53C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F3D-0E57-49D4-A611-993BB1CE2EB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&#22269;&#27665;&#25910;&#20837;&#38271;&#26399;&#22686;&#38271;&#36235;&#21183;&#21644;&#27874;&#21160;" TargetMode="External"/><Relationship Id="rId2" Type="http://schemas.openxmlformats.org/officeDocument/2006/relationships/hyperlink" Target="262,7,&#31532;&#20108;&#33410; &#23545;&#32463;&#27982;&#22686;&#38271;&#30340;&#19968;&#33324;&#35748;&#35782;" TargetMode="External"/><Relationship Id="rId3" Type="http://schemas.openxmlformats.org/officeDocument/2006/relationships/hyperlink" Target="263,8,&#31532;&#19977;&#33410; &#22686;&#38271;&#26680;&#31639;" TargetMode="External"/><Relationship Id="rId4" Type="http://schemas.openxmlformats.org/officeDocument/2006/relationships/hyperlink" Target="266,11,&#31532;&#22235;&#33410; &#26032;&#21476;&#20856;&#22686;&#38271;&#29702;&#35770;" TargetMode="External"/><Relationship Id="rId5" Type="http://schemas.openxmlformats.org/officeDocument/2006/relationships/hyperlink" Target="278,23,&#31532;&#20116;&#33410; &#20869;&#29983;&#22686;&#38271;&#29702;&#35770;" TargetMode="External"/><Relationship Id="rId6" Type="http://schemas.openxmlformats.org/officeDocument/2006/relationships/hyperlink" Target="279,24,&#31532;&#20845;&#33410; &#20419;&#36827;&#32463;&#27982;&#22686;&#38271;&#30340;&#25919;&#31574;" TargetMode="External"/><Relationship Id="rId7" Type="http://schemas.openxmlformats.org/officeDocument/2006/relationships/hyperlink" Target="281,26,&#31532;&#19971;&#33410; &#32463;&#27982;&#21608;&#26399;&#30340;&#21547;&#20041;&#19982;&#29305;&#24449;" TargetMode="External"/><Relationship Id="rId8" Type="http://schemas.openxmlformats.org/officeDocument/2006/relationships/hyperlink" Target="283,28,&#31532;&#20843;&#33410; &#32463;&#27982;&#21608;&#26399;&#29702;&#35770;&#30340;&#31616;&#35201;&#22238;&#39038;" TargetMode="External"/><Relationship Id="rId9" Type="http://schemas.openxmlformats.org/officeDocument/2006/relationships/hyperlink" Target="284,29,&#31532;&#20061;&#33410; &#20056;&#25968;&#65293;&#21152;&#36895;&#25968;&#27169;&#22411;" TargetMode="External"/><Relationship Id="rId10" Type="http://schemas.openxmlformats.org/officeDocument/2006/relationships/hyperlink" Target="284,29,&#31532;&#20061;&#33410; &#20056;&#25968;&#65293;&#21152;&#36895;&#25968;&#27169;&#22411;" TargetMode="External"/><Relationship Id="rId11" Type="http://schemas.openxmlformats.org/officeDocument/2006/relationships/hyperlink" Target="284,29,&#31532;&#20061;&#33410; &#20056;&#25968;&#65293;&#21152;&#36895;&#25968;&#27169;&#22411;" TargetMode="External"/><Relationship Id="rId12" Type="http://schemas.openxmlformats.org/officeDocument/2006/relationships/hyperlink" Target="286,31,&#31532;&#21313;&#33410; &#23454;&#38469;&#32463;&#27982;&#21608;&#26399;&#29702;&#35770;" TargetMode="External"/><Relationship Id="rId1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二十一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经济增长和经济周期理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基本假定和思路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03280" y="59500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人均生产函数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227664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332000" y="2205000"/>
            <a:ext cx="5833440" cy="1879560"/>
            <a:chOff x="1332000" y="2205000"/>
            <a:chExt cx="5833440" cy="1879560"/>
          </a:xfrm>
        </p:grpSpPr>
        <p:sp>
          <p:nvSpPr>
            <p:cNvPr id="224" name=""/>
            <p:cNvSpPr/>
            <p:nvPr/>
          </p:nvSpPr>
          <p:spPr>
            <a:xfrm>
              <a:off x="1332000" y="2205000"/>
              <a:ext cx="2088720" cy="368280"/>
            </a:xfrm>
            <a:prstGeom prst="rect">
              <a:avLst/>
            </a:prstGeom>
            <a:noFill/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资本存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32000" y="2205000"/>
              <a:ext cx="2160360" cy="368280"/>
            </a:xfrm>
            <a:prstGeom prst="rect">
              <a:avLst/>
            </a:prstGeom>
            <a:noFill/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产出</a:t>
              </a:r>
              <a:r>
                <a:rPr b="0" lang="en-US" sz="1800" spc="-1" strike="noStrike">
                  <a:solidFill>
                    <a:srgbClr val="163794"/>
                  </a:solidFill>
                  <a:latin typeface="Tahoma"/>
                </a:rPr>
                <a:t>/</a:t>
              </a: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收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2000" y="3716280"/>
              <a:ext cx="2088720" cy="368280"/>
            </a:xfrm>
            <a:prstGeom prst="rect">
              <a:avLst/>
            </a:prstGeom>
            <a:noFill/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资本存量的变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6720" y="3645000"/>
              <a:ext cx="2088720" cy="368280"/>
            </a:xfrm>
            <a:prstGeom prst="rect">
              <a:avLst/>
            </a:prstGeom>
            <a:noFill/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储蓄</a:t>
              </a:r>
              <a:r>
                <a:rPr b="0" lang="en-US" sz="1800" spc="-1" strike="noStrike">
                  <a:solidFill>
                    <a:srgbClr val="163794"/>
                  </a:solidFill>
                  <a:latin typeface="Tahoma"/>
                </a:rPr>
                <a:t>/</a:t>
              </a:r>
              <a:r>
                <a:rPr b="0" lang="zh-CN" sz="1800" spc="-1" strike="noStrike">
                  <a:solidFill>
                    <a:srgbClr val="163794"/>
                  </a:solidFill>
                  <a:latin typeface="Tahoma"/>
                </a:rPr>
                <a:t>投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280" y="2349360"/>
              <a:ext cx="1512360" cy="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1640" y="2636640"/>
              <a:ext cx="0" cy="100836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418920" y="3860640"/>
              <a:ext cx="1657080" cy="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V="1">
            <a:off x="2411280" y="2565000"/>
            <a:ext cx="0" cy="1150920"/>
          </a:xfrm>
          <a:prstGeom prst="line">
            <a:avLst/>
          </a:prstGeom>
          <a:ln w="9360">
            <a:solidFill>
              <a:srgbClr val="1637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7570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新古典增长模式的基本方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可以表述为：资本深化＝人均储蓄－资本广化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5257800" cy="94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4076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187280" y="59500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经济增长的稳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26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三、稳态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4824360" cy="5661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00000" y="1700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844640"/>
            <a:ext cx="30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经济、人口增长与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均收入的国际证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储蓄率的增加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408720" cy="4238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58920" y="609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储蓄率增加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332000" y="6237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人均产出和总产量增长率随时间变化的轨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人口增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913440" cy="4254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63640" y="609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人口增长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资本的黄金率水平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985080" cy="4297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4292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经济增长的黄金分割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6720" cy="4532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87280" y="6093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消费水平与储蓄率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国民收入长期增长的趋势问题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实际国民收入围绕长期趋势而做出周期性波动的问题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考虑到技术进步的新古典增长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84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32000" y="6165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引入技术进步的新古典增长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新古典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042920" y="2852640"/>
          <a:ext cx="6913440" cy="2350800"/>
        </p:xfrm>
        <a:graphic>
          <a:graphicData uri="http://schemas.openxmlformats.org/drawingml/2006/table">
            <a:tbl>
              <a:tblPr/>
              <a:tblGrid>
                <a:gridCol w="3745080"/>
                <a:gridCol w="31683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变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静态增长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按有效劳动平均的资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按有效劳动平均的产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人均产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总产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n+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971640" y="2060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在有技术进步的新古典增长模型中的稳态增长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内生增长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8002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基本模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两部门模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企业的生产函数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大学的生产函数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资本积累方程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237672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3708360" y="4941720"/>
          <a:ext cx="273672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4941720"/>
                    <a:ext cx="2736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780000" y="5877000"/>
          <a:ext cx="180000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5877000"/>
                    <a:ext cx="1800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564000" y="4221000"/>
          <a:ext cx="1944720" cy="37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64000" y="4221000"/>
                    <a:ext cx="194472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促进经济增长的政策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560" y="1152000"/>
            <a:ext cx="78598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鼓励技术进步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鼓励资本形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增加劳动供给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促进经济增长的政策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28000" cy="4464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411280" y="134136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增长与投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经济周期的含义与特征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经济周期的含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343640" cy="4175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35280" y="6165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经济周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经济周期的含义与特征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经济周期的特征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经济周期可以分为两个主要阶段，即衰退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阶段和扩张阶段。衰退阶段的特征为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通常消费者购买急剧下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对劳动的需求下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产出下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企业利润在衰退中急剧下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八节 经济周期理论的简要回顾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第二次世界大战前的经济周期研究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第二次世界大战后的经济周期理论概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九节 乘数－加速数模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加速原理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乘数－加速数模型的基本思想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乘数－加速数模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九节 乘数－加速数模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9280" y="1700280"/>
          <a:ext cx="8964720" cy="4938480"/>
        </p:xfrm>
        <a:graphic>
          <a:graphicData uri="http://schemas.openxmlformats.org/drawingml/2006/table">
            <a:tbl>
              <a:tblPr/>
              <a:tblGrid>
                <a:gridCol w="1042920"/>
                <a:gridCol w="1800360"/>
                <a:gridCol w="1728720"/>
                <a:gridCol w="1523880"/>
                <a:gridCol w="1524240"/>
                <a:gridCol w="134460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时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政府购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从上期国民收入中来的本期消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引致的本期私人投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国民收入总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经济变化趋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41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6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78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0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0078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复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繁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繁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衰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衰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萧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萧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复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复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繁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繁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衰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衰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1763640" y="1197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乘数和加速数的相互左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783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国民收入长期增长趋势和波动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对经济增长的一般认识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第三节    增长核算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第四节    新古典增长理论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5"/>
              </a:rPr>
              <a:t>第五节    内生增长理论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6"/>
              </a:rPr>
              <a:t>第六节    促进经济增长的政策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7"/>
              </a:rPr>
              <a:t>第七节    经济周期的含义与特征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8"/>
              </a:rPr>
              <a:t>第八节    经济周期理论的简要回顾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hlinkClick r:id="rId9"/>
              </a:rPr>
              <a:t>第九节    乘数</a:t>
            </a:r>
            <a:r>
              <a:rPr b="0" lang="en-US" sz="28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0"/>
              </a:rPr>
              <a:t>–</a:t>
            </a: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1"/>
              </a:rPr>
              <a:t>加速数模型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2"/>
              </a:rPr>
              <a:t>第十节    实际经济周期理论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十节 实际经济周期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作为波动源的技术冲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基本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89800" cy="3500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47640" y="6093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生产函数和资源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十节 实际经济周期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8712360" cy="3871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54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实际经济周期理论对宏观经济波动的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十节 实际经济周期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272360" cy="4638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26920" y="602136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技术变化所引起的投资、收入变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国民收入长期增长趋势和波动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5877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经济周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463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国民收入长期增长趋势和波动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9800" cy="4865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47640" y="6308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1970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－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2003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年实际产量与潜在产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对经济增长的一般认识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64198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经济增长与经济发展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经济增长与发展的一些事实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研究经济增长问题的一些方法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03280" y="2637000"/>
          <a:ext cx="7272360" cy="2736720"/>
        </p:xfrm>
        <a:graphic>
          <a:graphicData uri="http://schemas.openxmlformats.org/drawingml/2006/table">
            <a:tbl>
              <a:tblPr/>
              <a:tblGrid>
                <a:gridCol w="1152360"/>
                <a:gridCol w="2159280"/>
                <a:gridCol w="1873080"/>
                <a:gridCol w="20876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人均收入（美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人均收入（美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0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墨西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俄罗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巴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1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5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3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印度尼西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印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巴基斯坦</a:t>
                      </a:r>
                      <a:br>
                        <a:rPr sz="1800"/>
                      </a:b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孟加拉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尼日利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8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268360" y="2133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生活水平的国际差异（</a:t>
            </a:r>
            <a:r>
              <a:rPr b="0" lang="en-US" sz="2000" spc="-1" strike="noStrike">
                <a:solidFill>
                  <a:srgbClr val="163794"/>
                </a:solidFill>
                <a:latin typeface="Tahoma"/>
              </a:rPr>
              <a:t>1999</a:t>
            </a: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增长核算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8002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增长核算方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产出增长＝（劳动份额</a:t>
            </a: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劳动增长）＋（资本份额</a:t>
            </a: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资本增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长）＋技术进步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增长的经验估算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4200" y="249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增长核算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700280"/>
            <a:ext cx="8267760" cy="4809960"/>
            <a:chOff x="395280" y="1700280"/>
            <a:chExt cx="8267760" cy="4809960"/>
          </a:xfrm>
        </p:grpSpPr>
        <p:grpSp>
          <p:nvGrpSpPr>
            <p:cNvPr id="203" name=""/>
            <p:cNvGrpSpPr/>
            <p:nvPr/>
          </p:nvGrpSpPr>
          <p:grpSpPr>
            <a:xfrm>
              <a:off x="395280" y="1700280"/>
              <a:ext cx="8267760" cy="4809960"/>
              <a:chOff x="395280" y="1700280"/>
              <a:chExt cx="8267760" cy="48099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395280" y="1700280"/>
                <a:ext cx="8267760" cy="4809960"/>
                <a:chOff x="395280" y="1700280"/>
                <a:chExt cx="8267760" cy="480996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95280" y="1700280"/>
                  <a:ext cx="8267760" cy="4809960"/>
                  <a:chOff x="395280" y="1700280"/>
                  <a:chExt cx="8267760" cy="4809960"/>
                </a:xfrm>
              </p:grpSpPr>
              <p:pic>
                <p:nvPicPr>
                  <p:cNvPr id="206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95280" y="1700280"/>
                    <a:ext cx="826776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708280"/>
                    <a:ext cx="936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7080" y="3355920"/>
                  <a:ext cx="1008000" cy="271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429000"/>
                <a:ext cx="1079640" cy="24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6948360" y="3355920"/>
              <a:ext cx="790560" cy="33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2771640" y="1197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美国经济增长的核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增长核算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84358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经济增长因素分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16000" y="2924280"/>
          <a:ext cx="7128000" cy="3460680"/>
        </p:xfrm>
        <a:graphic>
          <a:graphicData uri="http://schemas.openxmlformats.org/drawingml/2006/table">
            <a:tbl>
              <a:tblPr/>
              <a:tblGrid>
                <a:gridCol w="3166920"/>
                <a:gridCol w="396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长因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长率（％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总要素投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劳动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资本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单位投入的产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知识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资源配置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规模经济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其他：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国民收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19280" y="1844640"/>
            <a:ext cx="6048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总国民收入的增长源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163794"/>
                </a:solidFill>
                <a:latin typeface="Tahoma"/>
              </a:rPr>
              <a:t>1929—1982</a:t>
            </a:r>
            <a:r>
              <a:rPr b="0" lang="zh-CN" sz="2000" spc="-1" strike="noStrike">
                <a:solidFill>
                  <a:srgbClr val="163794"/>
                </a:solidFill>
                <a:latin typeface="Tahoma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6308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9:59Z</dcterms:created>
  <dc:creator/>
  <dc:description/>
  <dc:language>en-US</dc:language>
  <cp:lastModifiedBy>zl</cp:lastModifiedBy>
  <dcterms:modified xsi:type="dcterms:W3CDTF">2014-12-15T08:20:1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