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AD8-86ED-4F95-AD82-F56DA926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629-A808-4C5F-A30E-AEAB35C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A3B-1214-41A7-8B71-30686148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0A4-9470-4AF2-8F37-0473B5B4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A29E-F2CB-4F3C-96D0-EB48602C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2F61-2C09-483C-8EE6-DE644231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28A2-6474-4746-B5E6-DE553A6D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071-FB57-47ED-B2C5-819249C6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52D3-91E4-454F-B9A6-A2295415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312-8E51-4373-A31F-C1ACAD67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912F-874F-4A3E-AA17-31527A5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986-3217-428F-B7C0-69C8ED76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CFDD-1D12-41F8-BA14-5920BF8D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6204-0FEB-4484-8EC3-6AB303A9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6303-485D-40DC-AD26-1A999A04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7315-50AC-4E1C-A586-5C870996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CF58-C0CB-4F3E-9A57-E717C8C2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7E3-9484-454A-A3D6-79412829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ABD-8DDA-4EC1-94B0-78B4010D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C39-78DC-4422-9597-F5E91C0B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DA4-F9F1-4DB9-BD20-D0F019ED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26C-39BC-42AA-BCAC-4278063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951-DBE2-49C7-9F1C-C1242E80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190-9850-4C39-A67C-07CA6603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3E68-3918-4634-90F5-D9791D8F146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8DF6-5396-4020-B35F-0A70F34DC3C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809520" y="6461280"/>
            <a:ext cx="49532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3794"/>
                </a:solidFill>
                <a:latin typeface="Verdana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63794"/>
                </a:solidFill>
                <a:latin typeface="Verdana"/>
                <a:ea typeface="黑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1440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8"/>
          </p:nvPr>
        </p:nvSpPr>
        <p:spPr>
          <a:xfrm>
            <a:off x="-360" y="9140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0,5,&#31532;&#19968;&#33410; &#25237;&#36164;&#30340;&#20915;&#23450;" TargetMode="External"/><Relationship Id="rId2" Type="http://schemas.openxmlformats.org/officeDocument/2006/relationships/hyperlink" Target="266,11,&#31532;&#20108;&#33410; IS&#26354;&#32447;" TargetMode="External"/><Relationship Id="rId3" Type="http://schemas.openxmlformats.org/officeDocument/2006/relationships/hyperlink" Target="266,11,&#31532;&#20108;&#33410; IS&#26354;&#32447;" TargetMode="External"/><Relationship Id="rId4" Type="http://schemas.openxmlformats.org/officeDocument/2006/relationships/hyperlink" Target="266,11,&#31532;&#20108;&#33410; IS&#26354;&#32447;" TargetMode="External"/><Relationship Id="rId5" Type="http://schemas.openxmlformats.org/officeDocument/2006/relationships/hyperlink" Target="271,16,&#31532;&#19977;&#33410; &#21033;&#29575;&#30340;&#20915;&#23450;" TargetMode="External"/><Relationship Id="rId6" Type="http://schemas.openxmlformats.org/officeDocument/2006/relationships/hyperlink" Target="277,22,&#31532;&#22235;&#33410; LM&#26354;&#32447;" TargetMode="External"/><Relationship Id="rId7" Type="http://schemas.openxmlformats.org/officeDocument/2006/relationships/hyperlink" Target="277,22,&#31532;&#22235;&#33410; LM&#26354;&#32447;" TargetMode="External"/><Relationship Id="rId8" Type="http://schemas.openxmlformats.org/officeDocument/2006/relationships/hyperlink" Target="277,22,&#31532;&#22235;&#33410; LM&#26354;&#32447;" TargetMode="External"/><Relationship Id="rId9" Type="http://schemas.openxmlformats.org/officeDocument/2006/relationships/hyperlink" Target="281,26,&#31532;&#20116;&#33410; IS-LM&#20998;&#26512;" TargetMode="External"/><Relationship Id="rId10" Type="http://schemas.openxmlformats.org/officeDocument/2006/relationships/hyperlink" Target="281,26,&#31532;&#20116;&#33410; IS-LM&#20998;&#26512;" TargetMode="External"/><Relationship Id="rId11" Type="http://schemas.openxmlformats.org/officeDocument/2006/relationships/hyperlink" Target="281,26,&#31532;&#20116;&#33410; IS-LM&#20998;&#26512;" TargetMode="External"/><Relationship Id="rId12" Type="http://schemas.openxmlformats.org/officeDocument/2006/relationships/hyperlink" Target="281,26,&#31532;&#20116;&#33410; IS-LM&#20998;&#26512;" TargetMode="External"/><Relationship Id="rId13" Type="http://schemas.openxmlformats.org/officeDocument/2006/relationships/hyperlink" Target="284,29,&#31532;&#20845;&#33410; &#20975;&#24681;&#26031;&#30340;&#22522;&#26412;&#29702;&#35770;&#26694;&#26550;" TargetMode="External"/><Relationship Id="rId1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第十四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产品市场和货币市场的一般均衡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S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曲线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IS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及其推导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6840360" cy="3786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187280" y="595008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IS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S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曲线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IS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推导图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32000" y="1731960"/>
            <a:ext cx="6408720" cy="512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S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曲线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52360"/>
            <a:ext cx="4038480" cy="22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二 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IS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曲线的斜率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484360" y="4724280"/>
            <a:ext cx="4103640" cy="14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2556000" y="1844640"/>
          <a:ext cx="3311280" cy="15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1844640"/>
                    <a:ext cx="331128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356000" y="3500280"/>
            <a:ext cx="144720" cy="935280"/>
          </a:xfrm>
          <a:prstGeom prst="downArrow">
            <a:avLst>
              <a:gd name="adj1" fmla="val 50000"/>
              <a:gd name="adj2" fmla="val 161567"/>
            </a:avLst>
          </a:prstGeom>
          <a:solidFill>
            <a:srgbClr val="163794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S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曲线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三 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IS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曲线的移动（投资需求变动使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IS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曲线移动）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416720" cy="477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S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曲线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三 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IS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曲线的移动（储蓄变动使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IS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曲线移动）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632720" cy="4917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388360" y="6237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利率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利率决定于货币的需求和供给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流动性偏好与货币需求动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流动偏好陷阱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四 货币需求函数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利率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195640" y="1817640"/>
            <a:ext cx="419868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00000" y="1197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货币需求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利率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274160" cy="4240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2920" y="5877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不同收入的货币需求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利率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五 其他货币需求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货币需求的存货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货币需求的投机理论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利率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六 货币供求均衡和利率的决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129800" cy="404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258920" y="60213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货币供给和需求的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重要问题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产品市场和货币市场一般均衡的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模型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利率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44000" cy="4673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16000" y="5661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货币需求和供给曲线的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8360" y="6237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L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曲线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及其推导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193080" cy="4162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403280" y="6093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L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曲线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408720" cy="4986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332000" y="6237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推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L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曲线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的斜率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264360" cy="4417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03280" y="616572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的三个区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四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L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曲线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的移动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5977080" cy="4500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00000" y="6165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货币供给量变动使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LM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曲线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8360" y="6237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五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S-L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分析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两个市场同时均衡的利率和收入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048720" cy="4105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971640" y="6021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产品市场和货币市场的一般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五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S-L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分析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609200"/>
            <a:ext cx="82915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产品市场和货币市场的非均衡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11280" y="2781360"/>
          <a:ext cx="8064360" cy="3119400"/>
        </p:xfrm>
        <a:graphic>
          <a:graphicData uri="http://schemas.openxmlformats.org/drawingml/2006/table">
            <a:tbl>
              <a:tblPr/>
              <a:tblGrid>
                <a:gridCol w="1440000"/>
                <a:gridCol w="3168360"/>
                <a:gridCol w="345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区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产品市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货币市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265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i&lt;s 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有超额产品供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i&lt;s 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有超额产品供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i&gt;s 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有超额产品需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i&gt;s 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有超额产品需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L&lt;M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有超额货币供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L&gt;M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有超额货币需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L&gt;M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有超额货币需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L&lt;M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有超额货币供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五节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S-L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分析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均衡收入和利率的变动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335640" cy="43070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87280" y="59500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均衡收入和均衡利率的变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8360" y="6237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六节 凯恩斯的基本理论框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396720" cy="1008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443640" y="1989000"/>
            <a:ext cx="449280" cy="781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0" y="2205000"/>
            <a:ext cx="39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凯恩斯的国民收入决定理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2492280"/>
            <a:ext cx="144360" cy="288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消费（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68360" y="1773360"/>
            <a:ext cx="142920" cy="2158920"/>
          </a:xfrm>
          <a:custGeom>
            <a:avLst/>
            <a:gdLst>
              <a:gd name="textAreaLeft" fmla="*/ 91440 w 142920"/>
              <a:gd name="textAreaRight" fmla="*/ 143280 w 1429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22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消费倾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1280" y="1557360"/>
            <a:ext cx="216000" cy="1727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1341360"/>
            <a:ext cx="439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平均消费倾向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APC</a:t>
            </a: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边际消费倾向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MPC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由此求投资乘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1079640" cy="976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56000" y="357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收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投资（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4724280"/>
            <a:ext cx="72720" cy="1513080"/>
          </a:xfrm>
          <a:custGeom>
            <a:avLst/>
            <a:gdLst>
              <a:gd name="textAreaLeft" fmla="*/ 46440 w 72720"/>
              <a:gd name="textAreaRight" fmla="*/ 73080 w 7272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68360" y="4508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利率（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2360" y="4005360"/>
            <a:ext cx="142920" cy="12952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80000" y="4005360"/>
            <a:ext cx="1368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流动偏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L=L</a:t>
            </a:r>
            <a:r>
              <a:rPr b="0" lang="en-US" sz="1800" spc="-1" strike="noStrike" baseline="-25000">
                <a:solidFill>
                  <a:srgbClr val="163794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163794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393372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3933720"/>
            <a:ext cx="288144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交易动机 （由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163794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满足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谨慎动机 （由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163794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满足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投机动机 （由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163794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满足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24360" y="5157720"/>
            <a:ext cx="403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货币数量 （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m= m</a:t>
            </a:r>
            <a:r>
              <a:rPr b="0" lang="en-US" sz="1800" spc="-1" strike="noStrike" baseline="-25000">
                <a:solidFill>
                  <a:srgbClr val="163794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+m</a:t>
            </a:r>
            <a:r>
              <a:rPr b="0" lang="en-US" sz="1800" spc="-1" strike="noStrike" baseline="-25000">
                <a:solidFill>
                  <a:srgbClr val="163794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84360" y="595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资本边际效率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(M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19640" y="573408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预期收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Arial"/>
              </a:rPr>
              <a:t>重置成本或资产的供给价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32360" y="5805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8360" y="6237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主要内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第一节      投资的决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第二节      </a:t>
            </a:r>
            <a:r>
              <a:rPr b="0" lang="en-US" sz="3200" spc="-1" strike="noStrike" u="sng">
                <a:solidFill>
                  <a:srgbClr val="6699ff"/>
                </a:solidFill>
                <a:uFillTx/>
                <a:latin typeface="Arial"/>
                <a:hlinkClick r:id="rId3"/>
              </a:rPr>
              <a:t>IS</a:t>
            </a: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4"/>
              </a:rPr>
              <a:t>曲线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5"/>
              </a:rPr>
              <a:t>第三节      利率的决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6"/>
              </a:rPr>
              <a:t>第四节      </a:t>
            </a:r>
            <a:r>
              <a:rPr b="0" lang="en-US" sz="3200" spc="-1" strike="noStrike" u="sng">
                <a:solidFill>
                  <a:srgbClr val="6699ff"/>
                </a:solidFill>
                <a:uFillTx/>
                <a:latin typeface="Arial"/>
                <a:hlinkClick r:id="rId7"/>
              </a:rPr>
              <a:t>LM</a:t>
            </a: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8"/>
              </a:rPr>
              <a:t>曲线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9"/>
              </a:rPr>
              <a:t>第五节      </a:t>
            </a:r>
            <a:r>
              <a:rPr b="0" lang="en-US" sz="3200" spc="-1" strike="noStrike" u="sng">
                <a:solidFill>
                  <a:srgbClr val="6699ff"/>
                </a:solidFill>
                <a:uFillTx/>
                <a:latin typeface="Arial"/>
                <a:hlinkClick r:id="rId10"/>
              </a:rPr>
              <a:t>IS</a:t>
            </a:r>
            <a:r>
              <a:rPr b="0" lang="en-US" sz="32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1"/>
              </a:rPr>
              <a:t>–LM</a:t>
            </a: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2"/>
              </a:rPr>
              <a:t>分析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3"/>
              </a:rPr>
              <a:t>第六节      凯恩斯的基本理论框架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投资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实际利率与投资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616720" cy="3882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79640" y="6021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投资函数  </a:t>
            </a:r>
            <a:r>
              <a:rPr b="0" lang="en-US" sz="2400" spc="-1" strike="noStrike">
                <a:solidFill>
                  <a:srgbClr val="163794"/>
                </a:solidFill>
                <a:latin typeface="DotumChe"/>
                <a:ea typeface="DotumChe"/>
              </a:rPr>
              <a:t>i = i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投资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投资边际效率的意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投资边际效率（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MEC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）是一种贴现率，这种贴现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率正好使一项资本物品的使用期限内各预期收益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的现值之和等于这项资本品的供给价格或者重置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成本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投资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资本边际效率曲线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274160" cy="3252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116000" y="57340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某企业可供选择的投资项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投资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50160" cy="3531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258920" y="580536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资本边际效率曲线（</a:t>
            </a: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MEC</a:t>
            </a: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）和投资边际效率曲线（</a:t>
            </a: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MEI</a:t>
            </a: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268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四 投资边际效率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投资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五 预期收益与投资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对投资项目的产出的需求预期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成品成本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投资税抵免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投资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六 风险与投资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七 托宾的“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q”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说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＝企业的股票市场价值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新建造企业的成本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8360" y="6237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15:41Z</dcterms:created>
  <dc:creator/>
  <dc:description/>
  <dc:language>en-US</dc:language>
  <cp:lastModifiedBy>zl</cp:lastModifiedBy>
  <dcterms:modified xsi:type="dcterms:W3CDTF">2014-12-15T08:15:5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