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BDF-C237-4189-939E-880ED963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DBA-9058-475E-8A14-9E4130AA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CAB-57A0-4A9E-9B96-E0A333E4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FD4-715F-471D-8298-0C721692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95AE-1AC6-4D70-A894-C422917B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A703-DB51-4008-A4A4-4DBCC0BC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FDD7-B99F-405D-9E77-8E2D98B9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CA52-82A4-40A1-84EA-34E66E4A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C3D0-706E-4EBC-BC31-0E473516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EB47-8216-4373-945C-76FF4A5C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0574-C1F0-49F4-8E29-31C1E7B4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69B-803F-47F9-BC29-823AEF34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6154-F958-4E68-8E2E-CEEFAF50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CD5B-0CCB-457A-ADB7-C1442BC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718E-BFE6-4562-80A0-43133112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1E14-6DB9-49B3-9E05-1E7F82ED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3FD3-70F7-4917-9E5B-D1A8DB3B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28D-C47F-492F-9FC1-50DC2C62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1FC-9443-468A-AAC7-44BAE47B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5E5-221A-482F-B597-148975E5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763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278-3F6E-413A-AE44-1FA65B2A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519-ECF7-46DE-BEF3-781FC8F3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4E8-1771-4048-B21E-BA0E8414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ED5-5424-4817-87D0-684F259E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4157-7906-403A-B64C-34637DFA989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9520-4722-4EDA-B3F7-905B11BCCC0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7"/>
          </p:nvPr>
        </p:nvSpPr>
        <p:spPr>
          <a:xfrm>
            <a:off x="3809520" y="6461280"/>
            <a:ext cx="49532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63794"/>
                </a:solidFill>
                <a:latin typeface="Verdana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63794"/>
                </a:solidFill>
                <a:latin typeface="Verdana"/>
                <a:ea typeface="黑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1440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8"/>
          </p:nvPr>
        </p:nvSpPr>
        <p:spPr>
          <a:xfrm>
            <a:off x="-360" y="91404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0,5,&#31532;&#19968;&#33410;   &#23439;&#35266;&#32463;&#27982;&#23398;&#30340;&#29305;&#28857;" TargetMode="External"/><Relationship Id="rId2" Type="http://schemas.openxmlformats.org/officeDocument/2006/relationships/hyperlink" Target="261,9,&#31532;&#20108;&#33410;   &#22269;&#20869;&#29983;&#20135;&#24635;&#20540;" TargetMode="External"/><Relationship Id="rId3" Type="http://schemas.openxmlformats.org/officeDocument/2006/relationships/hyperlink" Target="272,11,&#31532;&#19977;&#33410;   &#26680;&#31639;&#22269;&#27665;&#25910;&#20837;&#30340;&#20004;&#31181;&#26041;&#27861;" TargetMode="External"/><Relationship Id="rId4" Type="http://schemas.openxmlformats.org/officeDocument/2006/relationships/hyperlink" Target="277,14,&#31532;&#22235;&#33410; &#20174;&#22269;&#20869;&#29983;&#20135;&#24635;&#20540;&#21040;&#20010;&#20154;&#21487;&#25903;&#37197;&#25910;&#20837;" TargetMode="External"/><Relationship Id="rId5" Type="http://schemas.openxmlformats.org/officeDocument/2006/relationships/hyperlink" Target="264,15,&#31532;&#20116;&#33410;   &#22269;&#27665;&#25910;&#20837;&#30340;&#22522;&#26412;&#20844;&#24335; " TargetMode="External"/><Relationship Id="rId6" Type="http://schemas.openxmlformats.org/officeDocument/2006/relationships/hyperlink" Target="265,18,&#31532;&#20845;&#33410;     &#21517;&#20041;GDP&#21644;&#23454;&#38469;GDP" TargetMode="External"/><Relationship Id="rId7" Type="http://schemas.openxmlformats.org/officeDocument/2006/relationships/hyperlink" Target="265,18,&#31532;&#20845;&#33410;     &#21517;&#20041;GDP&#21644;&#23454;&#38469;GDP" TargetMode="External"/><Relationship Id="rId8" Type="http://schemas.openxmlformats.org/officeDocument/2006/relationships/hyperlink" Target="265,18,&#31532;&#20845;&#33410;     &#21517;&#20041;GDP&#21644;&#23454;&#38469;GDP" TargetMode="External"/><Relationship Id="rId9" Type="http://schemas.openxmlformats.org/officeDocument/2006/relationships/hyperlink" Target="265,18,&#31532;&#20845;&#33410;     &#21517;&#20041;GDP&#21644;&#23454;&#38469;GDP" TargetMode="External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普通高等教育“十一五”国际级规划教材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21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世纪经济学系列教材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</a:rPr>
              <a:t>西方经济学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3357720"/>
            <a:ext cx="6480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　编  　教育部高教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　编  　高鸿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写者   　刘文忻（北京大学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冯金华（前武汉大学现上海财经大学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　　　尹伯成（复旦大学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　　　吴汉洪（中国人民大学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623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中国人民大学出版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  国内生产总值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2428920"/>
            <a:ext cx="4038480" cy="269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179280" y="2349360"/>
          <a:ext cx="4038480" cy="32637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收入（支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23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工资和薪金                           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利息                                      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5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地租                                      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利润                                      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总计收入                               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50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211640" y="2349360"/>
          <a:ext cx="4248000" cy="324792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产出（收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生产出产品（纱）                   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200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减：购买原料棉花                   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50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产出（增值）                           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50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1476360" y="148428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Tahoma"/>
              </a:rPr>
              <a:t>一个假设的纺纱厂年产出和收入报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01080" y="5950080"/>
            <a:ext cx="431640" cy="647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  核算国民收入的两种方法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用支出法核算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GDP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GDP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 + I + G + (X - M)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163794"/>
                </a:solidFill>
                <a:latin typeface="Arial"/>
              </a:rPr>
              <a:t>：消费支出  </a:t>
            </a: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I</a:t>
            </a:r>
            <a:r>
              <a:rPr b="0" lang="zh-CN" sz="2000" spc="-1" strike="noStrike">
                <a:solidFill>
                  <a:srgbClr val="163794"/>
                </a:solidFill>
                <a:latin typeface="Arial"/>
              </a:rPr>
              <a:t>：投资 </a:t>
            </a: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G</a:t>
            </a:r>
            <a:r>
              <a:rPr b="0" lang="zh-CN" sz="2000" spc="-1" strike="noStrike">
                <a:solidFill>
                  <a:srgbClr val="163794"/>
                </a:solidFill>
                <a:latin typeface="Arial"/>
              </a:rPr>
              <a:t>：政府购买 </a:t>
            </a: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163794"/>
                </a:solidFill>
                <a:latin typeface="Arial"/>
              </a:rPr>
              <a:t>：出口 </a:t>
            </a: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163794"/>
                </a:solidFill>
                <a:latin typeface="Arial"/>
              </a:rPr>
              <a:t>：进口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  核算国民收入的两种方法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2637000"/>
          <a:ext cx="8229600" cy="3554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构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金额（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美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百分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30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个人消费支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私人国内总投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政府对产品和劳务的购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产品和劳务的净出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国内生产总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98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58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8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-34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00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-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1258920" y="148428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Tahoma"/>
              </a:rPr>
              <a:t>2001</a:t>
            </a:r>
            <a:r>
              <a:rPr b="0" lang="zh-CN" sz="2800" spc="-1" strike="noStrike">
                <a:solidFill>
                  <a:srgbClr val="163794"/>
                </a:solidFill>
                <a:latin typeface="Tahoma"/>
              </a:rPr>
              <a:t>年美国</a:t>
            </a:r>
            <a:r>
              <a:rPr b="0" lang="en-US" sz="2800" spc="-1" strike="noStrike">
                <a:solidFill>
                  <a:srgbClr val="163794"/>
                </a:solidFill>
                <a:latin typeface="Tahoma"/>
              </a:rPr>
              <a:t>GDP</a:t>
            </a:r>
            <a:r>
              <a:rPr b="0" lang="zh-CN" sz="2800" spc="-1" strike="noStrike">
                <a:solidFill>
                  <a:srgbClr val="163794"/>
                </a:solidFill>
                <a:latin typeface="Tahoma"/>
              </a:rPr>
              <a:t>和需求的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三节   核算国民收入的两种方法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628640"/>
            <a:ext cx="7632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Tahoma"/>
              </a:rPr>
              <a:t>二</a:t>
            </a:r>
            <a:r>
              <a:rPr b="0" lang="en-US" sz="3200" spc="-1" strike="noStrike">
                <a:solidFill>
                  <a:srgbClr val="163794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163794"/>
                </a:solidFill>
                <a:latin typeface="Tahoma"/>
              </a:rPr>
              <a:t>用收入法核算</a:t>
            </a:r>
            <a:r>
              <a:rPr b="0" lang="en-US" sz="3200" spc="-1" strike="noStrike">
                <a:solidFill>
                  <a:srgbClr val="163794"/>
                </a:solidFill>
                <a:latin typeface="Tahoma"/>
              </a:rPr>
              <a:t>G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Tahoma"/>
              </a:rPr>
              <a:t>国民总收入＝工资＋利息＋利润</a:t>
            </a:r>
            <a:r>
              <a:rPr b="0" lang="en-US" sz="2800" spc="-1" strike="noStrike">
                <a:solidFill>
                  <a:srgbClr val="163794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163794"/>
                </a:solidFill>
                <a:latin typeface="Tahoma"/>
              </a:rPr>
              <a:t>租金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Tahoma"/>
              </a:rPr>
              <a:t>                    </a:t>
            </a:r>
            <a:r>
              <a:rPr b="0" lang="zh-CN" sz="2800" spc="-1" strike="noStrike">
                <a:solidFill>
                  <a:srgbClr val="163794"/>
                </a:solidFill>
                <a:latin typeface="Tahoma"/>
              </a:rPr>
              <a:t>间接税和企业转移支付＋折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01080" y="5950080"/>
            <a:ext cx="431640" cy="647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四节 从国内生产总值到个人可支配收入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国内生产总值（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GDP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国内生产净值（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NDP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国民收入（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NI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4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个人收入（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PI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5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个人可支配收入（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DPI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四节 从国内生产总值到个人可支配收入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68360" y="1197000"/>
          <a:ext cx="8229600" cy="5678640"/>
        </p:xfrm>
        <a:graphic>
          <a:graphicData uri="http://schemas.openxmlformats.org/drawingml/2006/table">
            <a:tbl>
              <a:tblPr/>
              <a:tblGrid>
                <a:gridCol w="4392720"/>
                <a:gridCol w="2089080"/>
                <a:gridCol w="1747800"/>
              </a:tblGrid>
              <a:tr h="57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国内生产总值（</a:t>
                      </a: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GDP</a:t>
                      </a: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加  本国居民来自国外的要素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减  本国支付给外国居民的要素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等于  国民生产总值 </a:t>
                      </a: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(G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减  固定资本消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等于  国民生产净值（</a:t>
                      </a: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NNP</a:t>
                      </a: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减  统计误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等于  国民收入（</a:t>
                      </a: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NI</a:t>
                      </a: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减  包含存货价值和资本消耗调整的公司利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净税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净利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社会保险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政府所经营企业的当前盈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企业当前转移支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加  个人资产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个人接收的转移支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等于  个人收入（</a:t>
                      </a: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PD</a:t>
                      </a: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减  个人所得税和非税支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等于  个人可支配收入</a:t>
                      </a: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(DP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减  个人各项支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等于  个人储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5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7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57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35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84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49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87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-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8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45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52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20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907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2487.1 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2520.8 </a:t>
                      </a: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94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90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1024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903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-3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3794"/>
                          </a:solidFill>
                          <a:latin typeface="Arial"/>
                          <a:ea typeface="宋体"/>
                        </a:rPr>
                        <a:t>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-270360" y="1125360"/>
            <a:ext cx="729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63794"/>
                </a:solidFill>
                <a:latin typeface="Tahoma"/>
              </a:rPr>
              <a:t>美国</a:t>
            </a:r>
            <a:r>
              <a:rPr b="1" lang="en-US" sz="1800" spc="-1" strike="noStrike">
                <a:solidFill>
                  <a:srgbClr val="163794"/>
                </a:solidFill>
                <a:latin typeface="Tahoma"/>
              </a:rPr>
              <a:t>2005</a:t>
            </a:r>
            <a:r>
              <a:rPr b="1" lang="zh-CN" sz="1800" spc="-1" strike="noStrike">
                <a:solidFill>
                  <a:srgbClr val="163794"/>
                </a:solidFill>
                <a:latin typeface="Tahoma"/>
              </a:rPr>
              <a:t>年从</a:t>
            </a:r>
            <a:r>
              <a:rPr b="1" lang="en-US" sz="1800" spc="-1" strike="noStrike">
                <a:solidFill>
                  <a:srgbClr val="163794"/>
                </a:solidFill>
                <a:latin typeface="Tahoma"/>
              </a:rPr>
              <a:t>GDP</a:t>
            </a:r>
            <a:r>
              <a:rPr b="1" lang="zh-CN" sz="1800" spc="-1" strike="noStrike">
                <a:solidFill>
                  <a:srgbClr val="163794"/>
                </a:solidFill>
                <a:latin typeface="Tahoma"/>
              </a:rPr>
              <a:t>到个人可支配收入（单位：</a:t>
            </a:r>
            <a:r>
              <a:rPr b="1" lang="en-US" sz="1800" spc="-1" strike="noStrike">
                <a:solidFill>
                  <a:srgbClr val="163794"/>
                </a:solidFill>
                <a:latin typeface="Tahoma"/>
              </a:rPr>
              <a:t>10</a:t>
            </a:r>
            <a:r>
              <a:rPr b="1" lang="zh-CN" sz="1800" spc="-1" strike="noStrike">
                <a:solidFill>
                  <a:srgbClr val="163794"/>
                </a:solidFill>
                <a:latin typeface="Tahoma"/>
              </a:rPr>
              <a:t>亿美元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820000" y="6381720"/>
            <a:ext cx="324000" cy="476280"/>
          </a:xfrm>
          <a:custGeom>
            <a:avLst/>
            <a:gdLst>
              <a:gd name="textAreaLeft" fmla="*/ 133560 w 324000"/>
              <a:gd name="textAreaRight" fmla="*/ 190440 w 324000"/>
              <a:gd name="textAreaTop" fmla="*/ 196200 h 476280"/>
              <a:gd name="textAreaBottom" fmla="*/ 2800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五节   国民收入的基本公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6092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两部门经济的收入构成及储蓄－投资恒等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 + I = Y = C + S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五节   国民收入的基本公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6092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部门经济的收入构成及储蓄－投资恒等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 + I + G = Y = C + S + 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56000" y="414972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494172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Tahoma"/>
              </a:rPr>
              <a:t>I = S + (T - G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五节   国民收入的基本公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6092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四部门经济的收入构成及储蓄－投资恒等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 + I + G + (X-M) = Y = C + S + T + K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05360"/>
            <a:ext cx="216000" cy="718920"/>
          </a:xfrm>
          <a:prstGeom prst="downArrow">
            <a:avLst>
              <a:gd name="adj1" fmla="val 50000"/>
              <a:gd name="adj2" fmla="val 83208"/>
            </a:avLst>
          </a:pr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5013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Tahoma"/>
              </a:rPr>
              <a:t>I + G + (X - M) = S + T + 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44000" y="6093000"/>
            <a:ext cx="504720" cy="576000"/>
          </a:xfrm>
          <a:custGeom>
            <a:avLst/>
            <a:gdLst>
              <a:gd name="textAreaLeft" fmla="*/ 208080 w 504720"/>
              <a:gd name="textAreaRight" fmla="*/ 296640 w 50472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六节     名义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GD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和实际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GDP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1916280"/>
          <a:ext cx="7848720" cy="4032000"/>
        </p:xfrm>
        <a:graphic>
          <a:graphicData uri="http://schemas.openxmlformats.org/drawingml/2006/table">
            <a:tbl>
              <a:tblPr/>
              <a:tblGrid>
                <a:gridCol w="1019160"/>
                <a:gridCol w="2077920"/>
                <a:gridCol w="2664000"/>
                <a:gridCol w="2087640"/>
              </a:tblGrid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996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年名义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006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年名义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006</a:t>
                      </a:r>
                      <a:r>
                        <a:rPr b="0" lang="zh-CN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年实际</a:t>
                      </a:r>
                      <a:r>
                        <a:rPr b="0" lang="en-US" sz="18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1368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香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上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单位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×1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美元＝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美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单位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×4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美元＝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0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美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单位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×1.5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美元＝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美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单位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×5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美元＝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0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美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单位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×1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美元＝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美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单位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×4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美元＝</a:t>
                      </a: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4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美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15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美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3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美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60</a:t>
                      </a:r>
                      <a:r>
                        <a:rPr b="0" lang="zh-CN" sz="20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万美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63794"/>
                      </a:solidFill>
                    </a:lnL>
                    <a:lnR w="1368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13680">
                      <a:solidFill>
                        <a:srgbClr val="16379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第十二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国民收入核算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六节     名义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GD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和实际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GDP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2498760"/>
            <a:ext cx="43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306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163794"/>
                </a:solidFill>
                <a:latin typeface="Tahoma"/>
              </a:rPr>
              <a:t>实际</a:t>
            </a:r>
            <a:r>
              <a:rPr b="0" lang="en-US" sz="3200" spc="-1" strike="noStrike">
                <a:solidFill>
                  <a:srgbClr val="163794"/>
                </a:solidFill>
                <a:latin typeface="Tahoma"/>
              </a:rPr>
              <a:t>GDP </a:t>
            </a:r>
            <a:r>
              <a:rPr b="0" lang="zh-CN" sz="3200" spc="-1" strike="noStrike">
                <a:solidFill>
                  <a:srgbClr val="163794"/>
                </a:solidFill>
                <a:latin typeface="Tahoma"/>
              </a:rPr>
              <a:t>＝ 名义</a:t>
            </a:r>
            <a:r>
              <a:rPr b="0" lang="en-US" sz="3200" spc="-1" strike="noStrike">
                <a:solidFill>
                  <a:srgbClr val="163794"/>
                </a:solidFill>
                <a:latin typeface="Tahoma"/>
              </a:rPr>
              <a:t>GDP÷ GDP</a:t>
            </a:r>
            <a:r>
              <a:rPr b="0" lang="zh-CN" sz="3200" spc="-1" strike="noStrike">
                <a:solidFill>
                  <a:srgbClr val="163794"/>
                </a:solidFill>
                <a:latin typeface="Tahoma"/>
              </a:rPr>
              <a:t>平减指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17080" y="6093000"/>
            <a:ext cx="358560" cy="765000"/>
          </a:xfrm>
          <a:custGeom>
            <a:avLst/>
            <a:gdLst>
              <a:gd name="textAreaLeft" fmla="*/ 147600 w 358560"/>
              <a:gd name="textAreaRight" fmla="*/ 210960 w 358560"/>
              <a:gd name="textAreaTop" fmla="*/ 315000 h 765000"/>
              <a:gd name="textAreaBottom" fmla="*/ 450000 h 76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重要问题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了解宏观经济的特点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掌握几个简单的概念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主要内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152000"/>
            <a:ext cx="8497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第一节     宏观经济学的特点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第二节     国内生产总值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3"/>
              </a:rPr>
              <a:t>第三节     核算国民收入的两种方法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4"/>
              </a:rPr>
              <a:t>第四节    从国内生产总值到个人可支配收入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5"/>
              </a:rPr>
              <a:t>第五节     国民收入的基本公式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6"/>
              </a:rPr>
              <a:t>第六节     名义</a:t>
            </a:r>
            <a:r>
              <a:rPr b="0" lang="en-US" sz="3200" spc="-1" strike="noStrike" u="sng">
                <a:solidFill>
                  <a:srgbClr val="6699ff"/>
                </a:solidFill>
                <a:uFillTx/>
                <a:latin typeface="Arial"/>
                <a:hlinkClick r:id="rId7"/>
              </a:rPr>
              <a:t>GDP</a:t>
            </a:r>
            <a:r>
              <a:rPr b="0" lang="zh-CN" sz="3200" spc="-1" strike="noStrike" u="sng">
                <a:solidFill>
                  <a:srgbClr val="6699ff"/>
                </a:solidFill>
                <a:uFillTx/>
                <a:latin typeface="Arial"/>
                <a:hlinkClick r:id="rId8"/>
              </a:rPr>
              <a:t>和实际</a:t>
            </a:r>
            <a:r>
              <a:rPr b="0" lang="en-US" sz="3200" spc="-1" strike="noStrike" u="sng">
                <a:solidFill>
                  <a:srgbClr val="6699ff"/>
                </a:solidFill>
                <a:uFillTx/>
                <a:latin typeface="Arial"/>
                <a:hlinkClick r:id="rId9"/>
              </a:rPr>
              <a:t>GDP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  宏观经济学的特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宏观经济学的研究对象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------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社会总体的经济行为及其后果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  宏观经济学的特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二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宏观经济学和微观经济学的异同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相同点：都是通过需求曲线决定和供给曲线决定决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定价格和产量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不同点：微观经济学中的的供给和需求曲线都是个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体经济的供求曲线，而宏观经济学中的供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给和需求曲线是整个社会的供求曲线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  宏观经济学的特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三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宏观经济学的加总（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aggregation</a:t>
            </a:r>
            <a:r>
              <a:rPr b="0" lang="zh-CN" sz="3200" spc="-1" strike="noStrike">
                <a:solidFill>
                  <a:srgbClr val="163794"/>
                </a:solidFill>
                <a:latin typeface="Arial"/>
              </a:rPr>
              <a:t>）法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宏观分析中有些总变量可以从微观分析的个量中直接加总而得到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有的时候微观经济学中的一些个体变量尽管可以加总，但是这种加总却达不到研究整个社会经济行为的目的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有时候一些微观个体的行为就根本不能直接加总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四</a:t>
            </a: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宏观经济学鸟瞰和本书宏观部分的章节安排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3794"/>
                </a:solidFill>
                <a:latin typeface="Arial"/>
              </a:rPr>
              <a:t>国民收入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一节   宏观经济学的特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3284640"/>
            <a:ext cx="73080" cy="1871640"/>
          </a:xfrm>
          <a:custGeom>
            <a:avLst/>
            <a:gdLst>
              <a:gd name="textAreaLeft" fmla="*/ 46800 w 73080"/>
              <a:gd name="textAreaRight" fmla="*/ 73440 w 730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95640" y="321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短期决定及对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2997360"/>
            <a:ext cx="71280" cy="8632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2852640"/>
            <a:ext cx="468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总需求曲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总供给曲线－劳动市场（和总量生产函数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2421000"/>
            <a:ext cx="73080" cy="1224000"/>
          </a:xfrm>
          <a:custGeom>
            <a:avLst/>
            <a:gdLst>
              <a:gd name="textAreaLeft" fmla="*/ 46800 w 73080"/>
              <a:gd name="textAreaRight" fmla="*/ 73440 w 73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80000" y="2421000"/>
            <a:ext cx="25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产品市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货币市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国际市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4221000"/>
            <a:ext cx="648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长期决定和对策－经济增长论和经济周期理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3794"/>
                </a:solidFill>
                <a:latin typeface="Tahoma"/>
              </a:rPr>
              <a:t>有关国民收入的短期决定的不同意见和对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01080" y="5950080"/>
            <a:ext cx="431640" cy="647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第二节   国内生产总值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GDP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是一个市场价值的概念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GDP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的测度是最终产品的价值，中间产品不计入，否则会造成重复计算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GDP</a:t>
            </a:r>
            <a:r>
              <a:rPr b="0" lang="zh-CN" sz="2800" spc="-1" strike="noStrike">
                <a:solidFill>
                  <a:srgbClr val="163794"/>
                </a:solidFill>
                <a:latin typeface="Arial"/>
              </a:rPr>
              <a:t>是一定时期内（往往为一年）所生产而不是所销售掉的最终产品的价值。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8:03:58Z</dcterms:created>
  <dc:creator/>
  <dc:description/>
  <dc:language>en-US</dc:language>
  <cp:lastModifiedBy>zl</cp:lastModifiedBy>
  <dcterms:modified xsi:type="dcterms:W3CDTF">2014-12-15T08:14:3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